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A3B-E791-4054-ABA2-4FFA11F2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911-6EE8-49AC-98B7-8CC1AD44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41C-FB14-4ED9-9C67-BE4D4999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009-4D27-4210-B3EF-CF2BD2CA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657-9BCF-4E25-B457-2DAEFAC2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B6A-47C9-43E6-8CB8-A79DE205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046-523A-46F4-B456-22743C6A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DA2-2C2A-4694-AFFC-5601C5F2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309-50AD-45A7-BAAC-B581F77B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49B-1A48-4A89-AEDD-0445F21B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82C-E850-46D5-8AD8-888F7FBA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AED-A2AC-45F1-B68A-8EE1EAF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5880-24DE-4835-B70B-C065B2613545}" type="datetime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6.07.29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D30C-3B65-42ED-9AD2-9358DFC5927B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808000"/>
                </a:solidFill>
                <a:latin typeface="Times New Roman"/>
              </a:rPr>
              <a:t>Genogram</a:t>
            </a:r>
            <a:br>
              <a:rPr sz="4400"/>
            </a:br>
            <a:r>
              <a:rPr b="0" lang="hu-HU" sz="4400" spc="-1" strike="noStrike">
                <a:solidFill>
                  <a:srgbClr val="808000"/>
                </a:solidFill>
                <a:latin typeface="Times New Roman"/>
              </a:rPr>
              <a:t>Ecomap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18B27-7686-43D0-947D-A9F2D789DC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GENOGRAM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36720" y="2016000"/>
          <a:ext cx="54691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2016000"/>
                    <a:ext cx="54691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267080" y="4952880"/>
            <a:ext cx="388620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30427-B60B-46EB-91CB-E95AEEE7CC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12800" y="925560"/>
          <a:ext cx="7718400" cy="48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925560"/>
                    <a:ext cx="771840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343400" y="4495680"/>
            <a:ext cx="449568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C3CB4-D3ED-4310-9026-68F6669C72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09680" y="838080"/>
          <a:ext cx="33544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3354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505320" y="4800600"/>
            <a:ext cx="312408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CE4BC-DC3A-4C7C-9AE1-29FE18F941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960560" y="858960"/>
          <a:ext cx="522288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0560" y="858960"/>
                    <a:ext cx="522288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343400" y="5486400"/>
            <a:ext cx="3429000" cy="76212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0DBA5-4D72-4B26-80E6-D7845E4940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15960" y="843120"/>
          <a:ext cx="611028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843120"/>
                    <a:ext cx="611028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191120" y="5410080"/>
            <a:ext cx="4343400" cy="99072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4590F-575A-4FD5-B1FB-450C688EB1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15960" y="843120"/>
          <a:ext cx="611028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843120"/>
                    <a:ext cx="611028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191120" y="5410080"/>
            <a:ext cx="4343400" cy="99072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-152280" y="0"/>
            <a:ext cx="9296280" cy="705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A5CE9-8646-480D-AF7F-D336842DAD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15960" y="843120"/>
          <a:ext cx="611028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843120"/>
                    <a:ext cx="611028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191120" y="5410080"/>
            <a:ext cx="4343400" cy="99072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920" y="284040"/>
            <a:ext cx="8458200" cy="604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3E117-3E3A-49C4-9B38-139ED43322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4:31:35Z</dcterms:created>
  <dc:creator>Napraforgo CsSzGySz</dc:creator>
  <dc:description/>
  <dc:language>en-US</dc:language>
  <cp:lastModifiedBy>Kopasz István</cp:lastModifiedBy>
  <dcterms:modified xsi:type="dcterms:W3CDTF">2005-12-11T16:55:19Z</dcterms:modified>
  <cp:revision>6</cp:revision>
  <dc:subject/>
  <dc:title>GENOGRAM</dc:title>
</cp:coreProperties>
</file>